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6A4E-55E8-4264-A303-71BD0F568AE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BF4F-7E08-4684-B1A7-3D6BEBDBABA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F89-28BB-40BE-BAB9-4F435A27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A01-3CFF-459E-B8A7-F5752321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CB2-6C63-486E-AB6C-17EC13C3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645-8366-4667-9488-28FD3789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33DF-539D-4186-9D4E-A81B2EC0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1AAF-40B1-488A-B8E5-BA2C476F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C59C-9B16-4F75-9346-E69746ED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18D6-BBB4-490B-A53D-729EB870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BCE5-7328-4E38-BE3D-0AF00F6B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949A-235B-4F6D-B407-7862732A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52D5-5422-4625-B2A4-CD28E238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18A-A5C0-4D4E-9811-851F214E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32D2-D887-4D90-92D1-402C3BDD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8949-66C6-41BB-A048-6FF8C952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C515-4266-4262-A1DD-FAFBEF73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A895-5274-4AE6-BB22-6394165E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5130-C28B-41FC-8EFC-980A19B1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8B07-E6BF-4B34-A9F9-0A0053CE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4589-F374-4F33-A382-4F2AB38F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2C38-5176-4F61-B0A0-49DC06C7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6411-FC75-45CF-8FFD-93675882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C7B92-0FA0-4A6F-B648-346A3116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774-8212-4ACC-BD3E-69975DCD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0D98-9FF4-4972-B1CE-3F4774CE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B4E45-EFB6-47EB-918C-CA9CAAB4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B3F74-8ACF-4C4C-892A-C32B1DB5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25C4-FC83-4D43-B746-49BBC786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CE2D4-4A04-45A5-B047-D75FDCE6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D8331-42F3-4877-8666-FF2FF0D8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0A0A-47F5-43CA-92D4-0460EA86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5919D-E911-4887-8CF2-95BD15D9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47686-04A0-4874-9802-D43B95CD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F398D-22B7-4908-84F0-F16C38E4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680-FE29-469E-A5B1-6D0921CA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AE729-1A31-4F47-ADE3-58332AD0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B93B-EF86-4171-B80E-0138B6E9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68DD2-EDD8-4AF2-B085-B9B3349F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93F06-3AAE-4175-9462-1B713BC7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635DF-59B3-4F2A-BF20-DDB33621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5291-DE68-41D2-B8C9-9261D0E2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C52BF-F5AE-426D-B481-6C30C96C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14836-A8AB-4E49-8D9B-1CF0F062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2AA7-FB3B-462D-9678-48A14C62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F2B-8B48-4675-8E7C-95BE1ED1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BDC-19A1-44DD-B1BC-6531DD74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55F-4075-4767-BA70-29953602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BB8-2E00-4BAE-AB42-5379CBC0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509-1938-4BF5-8BB0-F5F9629B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AA73-CB35-4CC9-8497-BF496FF58275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A13B-2F5C-42C1-8E27-67C44CE63556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A183-82A1-48F8-AC11-DAA963625B86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24D5-3B93-49AF-84D2-CDA6A810CE4E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5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1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1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4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50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5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1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7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8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1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0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1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1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1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3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4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4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1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6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9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1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4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5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5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4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9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4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9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9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1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1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0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5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6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8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Елена Александровна Бронникова</cp:lastModifiedBy>
  <cp:lastPrinted>2016-12-07T09:58:05Z</cp:lastPrinted>
  <dcterms:modified xsi:type="dcterms:W3CDTF">2020-12-09T01:33:50Z</dcterms:modified>
  <cp:revision>5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